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D0D3-BAD6-44B0-9E23-C5029B3CE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980B7-3CD9-454C-B809-46205D22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75E6-AEAF-40D2-BFB0-7A3B359C0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934D-B35F-4C5D-82E7-21E186429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EC15-E2A0-49CA-A462-F464601DE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9CB5-F14E-4E54-8451-069A040D0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8921-C0AA-431F-9364-E54CF47F5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6000-6C2C-45D2-9DC3-DC8E4F81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746F-288F-4572-858B-D9AFB151D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085-BB2E-4C14-BE4A-A7889CCAA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E351-7C71-4B99-A947-D9DC45DA6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463C-252A-4652-A5AA-6184CF3E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4E85B-8A6D-4DE4-9804-EDE4C1454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H&amp;W International Cor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DK Soft Ferr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H&amp;W Powder C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endu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400" spc="-1" strike="noStrike">
                <a:solidFill>
                  <a:srgbClr val="33cc33"/>
                </a:solidFill>
                <a:latin typeface="Times New Roman"/>
              </a:rPr>
              <a:t>High Flux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M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45 Material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2062080"/>
            <a:ext cx="853416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45 μ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s H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461484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45 μ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vs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066680" y="2057400"/>
            <a:ext cx="7067520" cy="42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DK Power Ferri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600200"/>
          <a:ext cx="7924680" cy="4857840"/>
        </p:xfrm>
        <a:graphic>
          <a:graphicData uri="http://schemas.openxmlformats.org/drawingml/2006/table">
            <a:tbl>
              <a:tblPr/>
              <a:tblGrid>
                <a:gridCol w="1295280"/>
                <a:gridCol w="925560"/>
                <a:gridCol w="1360440"/>
                <a:gridCol w="228600"/>
                <a:gridCol w="1600200"/>
                <a:gridCol w="990720"/>
                <a:gridCol w="1523880"/>
              </a:tblGrid>
              <a:tr h="658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ter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itial 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o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0 – 80 ˚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7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7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ole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ize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– 50 ˚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solete (H7C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timiz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w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okes High Bs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ne 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Hz (H7F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7C4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9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New 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oadb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e Lo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C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N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gh Per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om Tem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33 Ferrite Power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DC Saturation 20 – 25% hig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gh Core Losses – detriment for transfo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st Suited For Output Chok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33 Material Characteristic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87716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I Limit vs Al For PC44 &amp; PC3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733920" cy="343368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4019400" cy="349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C95 Materi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ant Core Loss Over Tempera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me Price as Other Core Materi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s PC44 and PC47 in Board Mounted Power (Planar) Desig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ility Only In Planar Due To Limited P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terial Characteristics of PC95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red To PC44  PC45  PC4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47960"/>
            <a:ext cx="822960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Graph of Core Loss vrs Temperature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44 PC45 PC46 PC95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50436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DK Soft Ferrite His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alog Fil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Transmi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I / RF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Initial Perm vrs Temperature</a:t>
            </a:r>
            <a:br>
              <a:rPr sz="36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44  PC45  PC46  PC95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09680" y="2438280"/>
            <a:ext cx="4681800" cy="33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 of Bs &amp; Br vrs Temperature</a:t>
            </a:r>
            <a:br>
              <a:rPr sz="36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44  PC45  PC46  PC95</a:t>
            </a:r>
            <a:br>
              <a:rPr sz="2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2057400"/>
            <a:ext cx="489132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s of Core Loss &amp; Bs vrs Temperatur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C47    PC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93396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hapes For Board Mounted Po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R and EIR Seri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I Series (EI14, EI18 &amp; EI2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R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E Series (EE20/8/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QI16/7.8 (HPQ16/5.4 + PLT16/2.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/ELT S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/EIR &amp; EI  Sh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23338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52480" y="4191120"/>
            <a:ext cx="5486400" cy="21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ER &amp; EE  Sh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390840" cy="3514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343400" y="2133720"/>
            <a:ext cx="4086360" cy="31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L / ELT   Sha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990720" y="1824120"/>
            <a:ext cx="685800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DK Power Material Selection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209680" y="990720"/>
            <a:ext cx="4819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H&amp;W OEM Powder Core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ust   High Flux    M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ust Toroid – Perm = 26, 60, 75, 90, 12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ust EE – Perm = 26, 40, 6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 Flux Toroid – Perm = 26, 60, 125, 147 1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P Toroid – Perm = 26, 60, 125, 147, 160, 173, 2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PP Washer – Perm = 125 and custo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H&amp;W Powder Core Selection Gu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286000" y="990720"/>
            <a:ext cx="4464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rite For Analog Filter</a:t>
            </a:r>
            <a:br>
              <a:rPr sz="4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ch - Band Pa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 Material – NiZ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6x Material – MnZ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solete as of 199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errite For Data Trans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DSL - T1/E1   T3/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40 – Control of THD – EP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70 – Control of THD – EP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l Area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N45/DNW45 – Higher DC Saturation Toroi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ulse Transfor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5B2 – Small Toroid - Large Δ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trol of TH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mium Material was Gapped H5C3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40 Developed For Low Cost Control of T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70 New Material For the Control of TH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70 Material Characteristic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erial Specif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990720" y="1901880"/>
            <a:ext cx="7315200" cy="37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N70 Material Characteristics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itial Permeabilit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μ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MS Shell Dlg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14400" y="1752480"/>
            <a:ext cx="731520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838080" y="1538280"/>
            <a:ext cx="7543800" cy="44766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of H5C3 DN40 DN70 vs Tempera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ph of H5C3 DN40 DN70 vs Saturation Flux Dens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905120"/>
            <a:ext cx="746748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8T20:58:26Z</dcterms:created>
  <dc:creator>Gary Van Schaick</dc:creator>
  <dc:description/>
  <dc:language>en-US</dc:language>
  <cp:lastModifiedBy>Gary Van Schaick</cp:lastModifiedBy>
  <dcterms:modified xsi:type="dcterms:W3CDTF">2004-01-06T20:06:53Z</dcterms:modified>
  <cp:revision>5</cp:revision>
  <dc:subject/>
  <dc:title>MH&amp;W International Corp</dc:title>
</cp:coreProperties>
</file>